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EDA-3977-4141-8F40-9410727C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CE5-EE6C-491D-84AC-E0F56080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6802A-DB77-4E98-91F7-659DCCC4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41ABA-79A6-48C5-84DD-A3BC4B1F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75BAC5-C2BA-42F2-AC10-E2B1AC78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37770-9024-4E33-A0DE-37CD9D2A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0161C9-11EC-4035-8DBA-5CEB4870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17029-413D-4103-AAFA-7B429F05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B2BAD-EF5E-4AD8-8C2C-EFB82985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D2F0F-2C74-402D-BB6E-0C45136B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12B04-6371-4698-8808-A0F74DCA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E12-9253-416F-9E53-C10987AA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DC4-0E57-46B5-8FF8-CC783DFD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7E4E-2D4B-412F-B82A-554DA2D5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3E00-4D0A-4ABA-BA58-4E4165E4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D54D-0C95-4EB1-AD43-5FE502FD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215F-62AB-4701-9E72-D4840C12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43CC-EEF5-48E8-B05D-CA876EF3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6FD7-8E98-4EEA-88CB-210C09BC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D3F0-C4FE-4AAA-BBA2-70788684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7CA-0FB7-451B-AC82-30AA7235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055F-CA2D-4499-8BE5-13D96EA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7C59-0881-4B97-AE87-8B6CD148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5035-875D-4D01-9456-99874780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4F8A-D2D9-4D86-BAB1-7C9C9F82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68F7-BEC9-4F0E-AAA5-DA6A265D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9896-2F13-4CD2-9956-AB6E301F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A11E-B018-4D8E-96EC-0962B876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A1D0-7CC0-4E1F-8480-655205E1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2196-64FB-477C-9894-9A082F7F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89C97-FD9C-4E9C-92E5-F938B75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B22-73CC-4BBF-8037-DA478E29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2A70-2B08-4739-95A2-D69DF0A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3B86-4B26-41AD-B073-F15984A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EE41-0E07-434B-BB53-8DB7844D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4883-7336-4A7F-8568-CA54AC0A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7826-3A5A-412D-B8DB-29BAC65A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8C0C-C479-44A2-9A54-17415F79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E203-8A4D-4109-9D20-06C059C0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53DE1-0FA9-455F-A2DA-B50269F287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78BF6-C27C-466E-B198-E0AC06D7A4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A7E78-A702-4CDE-96F3-BF29BB90B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AFE-13C8-4155-B225-58E8110E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E7547-A7C5-4A33-8AAC-C856E864B4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95E3A-2705-4DC8-B60C-04FC46429B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D7EAC-CC38-4F94-867D-DDC9F79358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5379C-DDDD-435E-A088-0852379DA3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C6C56-0BE9-4239-9383-CDB6A32828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65BE7-ADB1-4FF8-BDAA-8FD87298C5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54379-4AD3-4440-A0FF-261C50104C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6CD7F-01EF-491F-A56B-5C1759C7EB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42A66-DD8B-48E3-B50A-7D93F6FD8E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A9CC-D897-4041-B9CF-226885D9E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4A6-7598-4238-915E-B21B35B9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ABAA-6A57-43E3-B490-921B07B094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A19A-02CF-422C-B9CB-5A54C47ADF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F8BC-B1AB-4B43-A32E-536692C3C4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F13D-A561-4520-BAB5-CC3ABA7BE7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E0EB-1764-4C24-9170-4FB1E598E3F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FBDEE-B7CB-45C3-BA16-58FE8F86DC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C7E64-A839-4F6D-8844-553EED115F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2D1D-D0AF-4D90-AB37-2AC6439ED26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CF9C-FBEA-4BCD-A51A-3BCBD83D75A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CB416-1950-4C97-8E36-40375676F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880-181B-4D94-B6DD-8059320E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404C-765C-4856-A490-8AC782D79D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8E5707-E70F-45D2-A43C-A5396F01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47063-E52B-4329-9936-EAAAD717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F534A1-D284-4DB9-B7CA-A5BE9CEA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953A1-B185-47B8-9A36-60EBCD90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183E7-F333-4009-8615-C58B010D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0FF754-DD12-4F36-B81F-0B9C5B7D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6CD25E-7135-4DB2-969F-6C872AE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8DFEAD-C88D-42BC-80B8-CC612879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AAD035-0449-4987-BF2F-9C50FAED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488-99E9-4602-BA41-4882A63F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0CF8AF-519F-4105-A114-8D65165B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0D71B0-8986-4680-9CD2-C44BFAFF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46BA5F-6EAE-4CD4-9F4D-F4CC4614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35B26-90CC-4B7C-8D90-40F989DC42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0CFCB-CE54-4036-98E8-85C1B77894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805E-244C-4736-8D6F-69A2013AD37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5372-0936-462A-BFA4-EE1A83A974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C430B-8DC1-44E4-ACED-DB43E830B6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57921-3B10-4ADC-81F4-9D3DAC3E39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C9A6-92C2-4ED3-AF90-E319CB8C6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01F-B7A4-4483-9E86-E5DD33E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48725-CFB8-400A-830D-CC70003F311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B5B1E-AB81-4456-889E-F798CADC78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370E4-2B2F-4810-9D6B-FC9B11113EC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BC0CA-792E-48AA-92CD-A592003E0E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CE66-3097-48C7-8A5D-80E9E88DE4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19AC02-FDAE-48FD-96CC-0B2FC50F123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BDB22-9E98-4F1C-88A3-E2B5F29434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90CFE-C8BA-4CBE-AD50-5AC9582C75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97DDB-1204-44EE-9609-684A764B62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78255-E3B6-4C2E-AD6B-AB64A6792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0D7-CE4A-49A8-90D5-EF56FDC2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35BDB-D684-42CD-8F4C-792395FEE5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74BF2-123C-4D79-868B-0622C0C9847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4469E-E4FE-4739-A9BF-7117928F8FF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68A3F0-A51C-4C95-85B3-567F743D004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72547-35F3-4B3B-9CE2-8C112DD4ED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FF2CF-DE03-47B2-914F-0E9D604CF44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7DC41-20F3-4A7F-9E50-C3EF15412A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78EA0-8D55-4FD2-BCB6-6955B941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47612A-D68E-45F4-AFB0-36B2F44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7B80D-02CF-439C-ACC9-D1731F1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2953-A0AE-41DC-9E81-C700AC42A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3919-79A3-4FC8-8EE7-A4E19DDAF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9796-D4B5-4C16-B61C-3FAAADCEF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E144D4A-CDB3-4165-9CBD-33598FBB7E7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075B4FE-4949-4681-ABDC-EC12B090D40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BAA9-B2EF-402E-983A-89D4FAA5164E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8E5E0EC-7C15-42B5-BA2E-89B1DAAE413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1F65591-E5A9-4B19-93DB-AB2435AC834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E193C8B-250A-43FD-9D48-ACA62B0A90E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B7CF-4F9C-47A0-A7EE-237F04C33133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Choose the Channel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  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3733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.1 Global Channels of Distrib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.2 Sports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.3 Entertainment Distrib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.4 Technology and Distribution Med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80880" y="38088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6CC-79B3-450F-8761-481A550AC77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533160" y="24379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distribution affect the success of an event or produ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9D83-0B42-484D-BBE5-583DF352292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HANN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ajor channels of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1972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A5BA-BC6B-43B6-9817-21C87D41AFB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Live Ev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phith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al-shaped outdoor theaters with tiered seating around a central staging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en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cility where an event is h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97AA-87BF-4BDB-ADD2-C0595D30907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Via Me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ans of distributing the event to a large volume of people (the mas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massive marketing 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1319-07AD-49A2-AEEF-6FA3AFDBBB5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u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inexpensive equi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ily available where other media is unavai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110.6 million U.S. households own at least one tel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e viewers between the ages of 18 and 49 are the target audience of most televised sporting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onsors’ advertising is geared to the target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Ra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949A-271C-4DCB-BBFC-D33B37065B4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sent shock waves through the major traditional 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Internet technology improves, creative ideas emerge for its use to enhance and complement the older channels of distrib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646F-6E2B-40D9-B4E1-C7FA8543D63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elivery Op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t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 of delivery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D695-33D5-42F1-AB93-1349746B69B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533160" y="24379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 two major channels of distribution for sports and entertai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F60-8961-447D-A937-13B4822B317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8.2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Sports Distribution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distribution and sponsorship of amateur sports and recre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distribution of college spor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distribution of professional spor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A62-1DB4-4103-9605-06F33B66317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tle 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gue agre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6516-8F98-4F0C-8821-0E7B27AF75E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inning Strateg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rm TiVo refers to both the service and the company’s digital video rec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ing to distinguish itself from compet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 vid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view assorted clips free of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am digital mus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ad pho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le and satellite TV are main compet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457200" y="1066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iVo, In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A970-CD7C-4BA2-831A-28C127E4A91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MATUER SPORTS AND RECRE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teur athle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p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for enjoyment and challe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FE6D-983A-4B94-87AF-F6F5C9CE641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Fitness and Fu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creation industry is driven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isure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858000" y="4267080"/>
            <a:ext cx="2057400" cy="16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AA29-7C72-45F5-AF00-D8FB06DAB9F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Facilities versus Wilder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alance must be struck between the need for outdoor recreation and the need to preserve the enviro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35C4-51A2-4EB3-B010-9B9920D1268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Getting Acc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ion in recreational sports is directly related to inc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tle 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1972 amendment to federal education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hibits discrimination against females in high school 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F373-BCA3-4940-A60A-80852605664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56840" y="26665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factors affect the development of recreational sports facilitie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669F-EC68-4045-847C-0733BBD926C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LLEGIATE S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inning college team has economic implications for i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o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781680" y="4343400"/>
            <a:ext cx="20574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BF1F-7518-44F7-9583-E6E524463BF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Football R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wl Championship Series (B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2006, participating teams received between $14.8 and $18.3 mill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onsors pay for teams’ travel and participation expen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onsors want a sell-out crowd and a large TV audience to maximize reven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0648-3ED2-43A9-B470-89E1A80D913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llege Team Ranking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BCS ra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quate to big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ich teams play in the national champion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E001-77DB-4AD6-A916-099448ECE05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nfluences which games are distributed via national televisio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A69A-91D5-4A75-87DD-6A86148EF16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ESSIONAL S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arket driven economies, professional sports are distributed based on dem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government controlled economies, distribution of sports is tightly contro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F5C5-9CE2-4C0E-8CE3-C7238B0EBFB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8.1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Global Channels of Distrib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importance of sports and entertainment distrib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and describe distribution channels for sports and entertai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99F2-6C41-4A60-B796-F06548494F3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orldwide Covera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2006 FIFA World Cup match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a combined audience of 32 billio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broadcast in HDT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three years to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more than 300 broadcast part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a disposable arena for 10,000 fans of the final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05C0-0126-41F2-B890-C08DA64CEB9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untries with restrictive governments prohibit and/or censor the broadcast of ga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olitical Foo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FDB0-4095-431A-ABF7-A423F6E58B0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istributing the Ga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U.S., demand for professional sports teams exceeds supp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A54A-BF55-45ED-935F-B1B617A212B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mbination of independent businesses formed to regulate production, pricing, and marketing of a prod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gue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s the marketing mix and governs the distribution of the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legislation exists to exempt professional sports teams from federal antitrust la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6081-8961-4989-8A66-D1F06C91444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s with a large potential customer base are considered favorable for the location of a t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id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financially back a t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ten with public f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How Distribution is Dec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rcRect l="30470" t="57297" r="44535" b="18753"/>
          <a:stretch/>
        </p:blipFill>
        <p:spPr>
          <a:xfrm>
            <a:off x="6553080" y="4267080"/>
            <a:ext cx="221004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4EF9-DB04-43B0-87DD-3058C63B824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sion f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ice that existing leagues’ owners set for the new owner of a franch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ions will pay high fees to get their name on a stadi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It Takes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rcRect l="30470" t="57297" r="44535" b="18753"/>
          <a:stretch/>
        </p:blipFill>
        <p:spPr>
          <a:xfrm>
            <a:off x="6553080" y="4267080"/>
            <a:ext cx="221004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4FC4-4369-47D8-9151-5C47149C17B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Nonstop Distrib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ugh assorted media outlets, the NFL offers related coverage 24/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1972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FE4C-31A6-4EFE-BB74-42A3C5994DD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80520" y="2742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would a city want a professional sports team in its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0" name="Picture 5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661-FCCF-4851-AC26-C2CAB3DBFCE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8.3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Entertainment Distribu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distribution of mov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changing formats of music distribu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0D56-AAB2-48F4-9594-FAF5E39BC8C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-house mov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e p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king sta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C9A-7005-44D1-B6E9-41D9028DC6A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 enterp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hith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tfor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CCB7-94F3-431B-A229-C89BA39130C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T THE MOV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celona, Spain shows more than 80 movies da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7272-A938-497E-8175-0A60CC4C052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he Big Scre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ies are made with the demographics of a particular audience in mi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vie p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lease of a movie to a limited number of theaters prior to its official rel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t-house mov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side the mainstream of popular su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made by independent filmma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1012-5DD9-406A-83C2-DE5D650481E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Managing the Costs of Mov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-budget mov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t less than $250,000 to produ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de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distribution of a movie to a thousand or more theaters concurren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rcRect l="30470" t="57297" r="44535" b="18753"/>
          <a:stretch/>
        </p:blipFill>
        <p:spPr>
          <a:xfrm>
            <a:off x="6705720" y="441972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4762-2BAF-4DA9-BB8E-D748B46553D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atch It at Ho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flix opened a new channel of distribution for entertai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DVD  r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ls movies to subscr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57200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303E-0992-4EC9-9699-D3B68F3657A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at least three ways that movies are distribut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3525-0750-433E-85D4-B39837A7B6A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KING MUS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66"/>
                </a:solidFill>
                <a:latin typeface="Tahoma"/>
              </a:rPr>
              <a:t>Marketing the King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peal of an icon offers a variety of opportunities to distribute music and related products globa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858000" y="457200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2222-4CC2-410D-BA3C-77DEDF9C36F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From Vinyl to iP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 stored on a digital file can be played on personal computers or portable media play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858000" y="4343400"/>
            <a:ext cx="20574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CE3D-93F5-44B9-8C8B-93C31FF7151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Jumping on the Bandwag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ers of high-end electronic stereo systems jumped on the digital bandwag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781680" y="4267080"/>
            <a:ext cx="2057400" cy="16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1818-C3BE-4DF3-AAEC-EBA6E2E1ED0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s iPods to be connected to speakers that project the music throughout a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docking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1F2-5540-4B29-A016-E06352CD6E8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hanges in music distribution did portable digital music players br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A828-9698-4F3D-8D36-5A8438A9D8F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T IT TH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s the transportation and dissemination of a product 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7908-B1C1-48F3-B9DA-352591D49D9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8.4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Technology and Distribution Media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the convergence of sports and entertainment me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changes brought about by digitalizing mus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B392-4470-469F-B3E3-0C028B44088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c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tical inte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3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712B-7F97-4CC6-9250-E9FD5015600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DIA MER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nes between the various information, communication, and entertainment media are becoming more and more blur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705720" y="43434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D4FC-C05A-4E0E-AEF6-FB044D099F6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able Man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lly, there were three TV networ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E5E7-5EA7-4102-8821-72EB1DB9599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y of distributing multimedia files over the Internet for playback on computers, iPods, cell phones, and other mobile de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o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023D-6AFF-49F2-82EE-9CFC8390E47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igital Deliri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elevision transmissions must convert from analog to digital format by February 200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analog transmissions stop, a set-top converter box will be required to use an analog T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F6D3-F7D8-4510-BAE9-03F29D688D0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pace-Based Rad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ellite radio systems have three compon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tellites that orbit the ea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und stations that transmit signals to the satell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o receivers that unscramble the signals for liste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85800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9FB1-76AB-4C21-B987-65FED0EA43A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services on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nterrupted service from coast to co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atellit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DF09-0C4A-4CBB-8487-6569FCCF9D4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Mega Distrib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cast we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s of related entertainment businesses that produce shows or provide services for other group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85800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8158-6FE6-41D0-9BC5-7E08137C26E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one company controls several different areas of the same indu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vertical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A30E-FD94-40FB-A8A9-A36CD43A1AD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Economics of Distrib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ee enterp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conomic system that allows the unregulated supply and demand of products to drive the econ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B738-FB7A-4EDE-B5D5-D0F5D04FF6C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s to create cross-promotional 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market both advertising and entertainment to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Disney is vertically integrate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43434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CE6B-B399-43D5-8064-C4DC1E4D8D2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 two advantages of satellite radio over traditional ra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8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45C1-075C-4E30-81AE-09CE104FCC8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AL PLATFO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a business planning perspective, it is difficult for sports and entertainment distributors to keep up with technological chan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858000" y="4343400"/>
            <a:ext cx="20574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BAE2-CA29-4DAB-A7C4-42FC092E574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Internet Music 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-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files available for others to downl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uthorized cop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BAEE-1B54-484A-BB16-C6FCFEDD67E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685800" y="3123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P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igital audio encoding and compression format designed to greatly reduce the amount of data required to represent a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685800" y="106668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Lawsuits can be filed against computer owners who have a large collection of illegally obtained, copyright-protected mate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5474-187A-4239-B206-CC5D0CEA13A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thod to compress music and then decompress it in a way that does not noticeably affect the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685800" y="1066680"/>
            <a:ext cx="8077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los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D1F9-7870-4EEA-BD4A-077A5FCEEEA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there only a limited amount of music available in the MP3 form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400-54DE-4ED7-A18C-CE80F332DF4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PERFORMANCE INDICATORS EVALUATE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impact of hurricanes and the need for a guest safety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ize the importance of explaining a preparedness plan to prospective hotel gues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4" name="Picture 7" descr="WinningEdge_FBLA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98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822D-CE6A-40FD-9A99-0EE5E8A77AD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380520" y="3124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all aspects of the multi-media presen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pplicable, demonstrate teamwork that involves all members in the presen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80880" y="16002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Design an effective multimedia presentation that outlines the dangers of hurricanes and explains the safety pla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9" descr="WinningEdge_FBLA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98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20FB-7073-472C-A22A-665D3D608FA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HINK CRITICALL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es a multimedia presentation work well for this type of proj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a multimedia presentation more effective than a printed docum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should the hotel invest money in this proj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ould this multimedia presentation be distributed to the intended customer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4" name="Picture 7" descr="WinningEdge_FBLA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98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4E04-98C1-4B0F-A979-F1D8279536A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Global Challen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ountries discourage films produced in other countries from entering easily into their own count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ri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if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1A26-EEAD-4E81-B612-112DE968E1B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and for foreign-produced entertainment is 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5800" y="838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U.S. has no formal barriers to the import of audiovisual entertai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E16-81B7-4F39-A1F5-C9384369832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isney in Eur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49, Walt Disney hired a European citizen to run the Disney distribution operations in Euro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, Disney character merchandise can be purchased anywhere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essicaLee</cp:lastModifiedBy>
  <dcterms:modified xsi:type="dcterms:W3CDTF">2014-01-21T21:38:40Z</dcterms:modified>
  <cp:revision>688</cp:revision>
  <dc:subject/>
  <dc:title>Chapter 8</dc:title>
</cp:coreProperties>
</file>